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A53C-992C-4A16-98FF-E913C9D6A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00D-36AC-41C7-9FE2-D2BDB24EB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9EB6-5136-4DCB-A39D-C29046888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46FC-A67B-484F-AD44-A75E37E25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3D56-75E5-4EA2-B9A2-08FB4071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7362-278B-42D2-BCA2-24980F029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C8A3-93EB-46F5-BCCD-04100FFD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52CD-D785-4934-AE02-EEFAB0ADF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23A2-EAAB-407A-A01F-BF3155B8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4D17-3A0F-4CA6-992F-BDCFE311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B87-5468-415D-BBBC-CA8572DE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012-1CBF-466E-AA94-EDF9277F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55F-33EA-4B14-A6D5-2357867D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4DA-91E7-4DC3-A2C8-434289AF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62A-2D65-4B53-ACAF-FACE709D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48D-F70A-4818-B908-2C7D10C8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096-D422-4854-8FF2-96511D5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D67-4601-400A-A208-5E40E24C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C22-7EEF-4EB9-AEB0-F27DE275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492-F1FD-4C40-BA98-953FE93C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173-13F6-435B-BD1A-06E97799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143-E270-4818-A244-D3F7169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A055-3A0B-417D-938A-5FA3C3E235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 is this lady and what did she stand for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 for Industrial Ef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d Motor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drick Winslow Taylor, Henry Ford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d Assembly Line, the “Five Dollar Day”, Scientific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 to Protect Wor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Child Labor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uis Brandeis, Florence Kelly, Josephine Goldmark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ating-Owen Act, Workers Compensation, 10 hour workday for women and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 R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vement to Reform Local Gover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ssions, City Counci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zen Pingree, Tom Johnson (Socialis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erty taxes, public ownership of utilities and transportation, as well as other economic refor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Reform of Big Bus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ert M. La Follette, James Hogg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ws regulating railroads,  and end government corruption because of relationships with Big Busi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 for Elections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iam S. U’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 Ballot, Initiative, Referendum, recall, direct primary, and th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endment (direct election of senato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omen in Public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apter 17 Sec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ypes of jobs were women in each group likely to ho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, domestic and manufactu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ddle and Upp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-collar jobs (book keepers, stenographers, operators, etc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ypes of jobs were women in each group likely to ho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frican Americ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 and domes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, domestic, piecework, taking in boarders, and manufactu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educational opportunities for middle-and upper-class women chang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women’s colleges establ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 of Males between 25 and 34 are now  living w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ho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ut of seven Americans have ten of these.  What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state in the U.S. has a city with this name.  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col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these new opportunities affect the lives of middle-and upper-class wome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riage was no longer a woman’s only alter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ered opportunity to pursue a prof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ed to devote oneself to reform 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ff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three strategies were adopted by the suffragist to win the vo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ed to convince state legislatures to grant women the right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sued court cases to test th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paigned for a national constitutional amendment to grant women the right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4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results did each strategy produ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oming, Utah, Colorado, and Idaho granted women the vote (other states it fail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preme Court ruled that women were citizens, but that citizenship did not automatically confer the right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always voted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ve Presi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.R./TAFT/WIL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ddy Roosev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6560" y="12949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ig Busines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nforced Sherman Anti-Trust Act (49 Cas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epburn Act (Interstate Commerce Commissio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deral Reform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quare Deal”=progressive reforms to even the playing fiel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egotiated deals b/t workers and owners (ex: coal strike 1902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eat Inspection Act /Pure Food and Drug Ac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servatio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tional Reclamation Act (1902) Set aside 200 million acres of lan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.S. Forest Service (1905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ivil Liberti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ome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upported Women Suffrag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ailed to truly endorse African America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vited Booker T Washington to the White Hou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4300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90332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am T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rcRect l="-20101" t="0" r="-20101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g Busines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forced Sherman Anti Trust Act (90 cas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ered Tariffs slightly  (Payne Aldrich Ac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deral Re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ed Lab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partment of Lab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owed private business group to obtain several millions of acres of Alaskan public land (angered conservationist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rved more land then T.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vil Liberti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me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ed Suffrag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lked about issues but did nothing for African America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odrow Wil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rcRect l="-18639" t="0" r="-18639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g Bus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ayton Anti-Trust A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deral Re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mendment=income ta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deral Trade Commi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deral Reserve System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ed strikes, picketing, and boycot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 the National Park Service Bill (191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vil Liber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m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ightly supported Suffrag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tended Jim Crow La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orsed “Birth of a Nation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were the reasons for these “Progressive” move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ddress the problems that had contributed to the social upheavals of the 189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ion Of 19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8600" y="2438280"/>
            <a:ext cx="2819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048120" y="2438280"/>
            <a:ext cx="1981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29200" y="24382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Popular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71629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28600" y="3581280"/>
            <a:ext cx="28195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Woodrow Wils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Teddy Roosevel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William Taf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Eugene D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8120" y="3581280"/>
            <a:ext cx="198108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Democrat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Bull Moos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Republican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Soci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029200" y="3581280"/>
            <a:ext cx="2133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6,296,00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4,118,00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3,486,00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9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7162920" y="3581280"/>
            <a:ext cx="18288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42% (435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27% (88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23% (8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6%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Wilson win the Presidential Election of 1912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osevelt and Taft split the Republican Tic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ve E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does the word “Progressive”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ve Era Legi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1523880"/>
          <a:ext cx="7772400" cy="50450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rman Anti-Trust 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lawed monopolies and unfair business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ates Forest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to manage nation’s water and timber resour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 inspection 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federal inspection of meat processing to ensure clean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Food and Drug 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lawed dishonest labeling of food and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 of Lab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inet department created to promote welfare of working peo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ve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60020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gressives urged the government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 Wealth 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 Social 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ing Moral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Economic Reform and Stop Unfa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government 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tering Effici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rigins of Progressive E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R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Welfare Reform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MCA, Salvation Army, Settlement Houses, Hull House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e Adams, Florence Kelly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d a variety of public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al Reform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an’s Christian Temperance Union, Anti-Saloon Leag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es Willard, Carey Nation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hibition adopted by many town and state gover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endment (Prohib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Reform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 Socialist Party, Muckra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gene Debs, Ida Tarbell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sed corruption in different indus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distribution of w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endment (Income Ta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00:30Z</dcterms:created>
  <dc:creator>Buffalo Grove High School</dc:creator>
  <dc:description/>
  <dc:language>en-US</dc:language>
  <cp:lastModifiedBy>Buffalo Grive High School</cp:lastModifiedBy>
  <dcterms:modified xsi:type="dcterms:W3CDTF">2012-02-09T17:29:09Z</dcterms:modified>
  <cp:revision>59</cp:revision>
  <dc:subject/>
  <dc:title>Progressive Era </dc:title>
</cp:coreProperties>
</file>